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FC61-7232-486C-8C6D-C0FA9908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FADC-3946-461D-9603-813DF2A3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2731-581E-461E-B4C0-BE211D64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8C2C-2AE7-446D-8E36-80C50419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321-653A-4EF2-88C3-E7E15609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9AD4-06C7-482B-A272-4954A930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D77A-A937-4E0B-8951-0B735CBC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EC47-44FA-4B97-859D-CA525329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6E23-7240-4A50-92EA-B0A5AFCE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B290-C292-4C9A-9D85-17AEF090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43A3-C00B-4032-921A-A1163A57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767-2196-4C2B-AF08-6B60218C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FDCC-82F4-490D-B7BB-F9959560C8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3"/>
          <p:cNvSpPr txBox="1"/>
          <p:nvPr/>
        </p:nvSpPr>
        <p:spPr>
          <a:xfrm>
            <a:off x="2079720" y="115920"/>
            <a:ext cx="518292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onotype Corsiva"/>
              </a:rPr>
              <a:t>Экономическая иг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3" name="WordArt 14"/>
          <p:cNvSpPr txBox="1"/>
          <p:nvPr/>
        </p:nvSpPr>
        <p:spPr>
          <a:xfrm>
            <a:off x="2195640" y="1095480"/>
            <a:ext cx="518292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onotype Corsiva"/>
              </a:rPr>
              <a:t>" Аукцион 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4" name="WordArt 15"/>
          <p:cNvSpPr txBox="1"/>
          <p:nvPr/>
        </p:nvSpPr>
        <p:spPr>
          <a:xfrm>
            <a:off x="755640" y="3573360"/>
            <a:ext cx="74008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Тема: "Рынок труда.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9 кла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5" name="j0212150.wav" descr=""/>
          <p:cNvPicPr/>
          <p:nvPr/>
        </p:nvPicPr>
        <p:blipFill>
          <a:blip r:embed="rId5"/>
          <a:stretch/>
        </p:blipFill>
        <p:spPr>
          <a:xfrm>
            <a:off x="900000" y="565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2484360" y="5094360"/>
            <a:ext cx="640872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474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какой формуле измеряется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9"/>
              <p:cNvSpPr txBox="1"/>
              <p:nvPr/>
            </p:nvSpPr>
            <p:spPr>
              <a:xfrm>
                <a:off x="2484360" y="4797360"/>
                <a:ext cx="30243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79280" y="292428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е фразу: «Если фирма стремится максимизировать прибыль, то она должна увеличивать затраты труда до тех пор, пока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58920" y="5013360"/>
            <a:ext cx="878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ежный доход от предельного продукта не сравняется с денежными затратами на нег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*M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 равна альтернативная стоимость 1 часа дос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58920" y="501336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24000" y="42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положи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58920" y="494172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замены, который сокращает часы отдыха и заменяет их часами работы, т.е. дох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отрица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58920" y="494172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дохода, который сокращает часы работы и заменяет их часам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24000" y="4149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показывает вертикальная кривая предложения на рынк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58920" y="4797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 дохода полностью компенсирует эффект замены, т.е. они разнонаправленны, но по абсолютной величин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24000" y="3716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рыночное  предложени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58920" y="4581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мма объемов предложения труда всех работников при каждой возможн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ставка заработной платы является равнове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58920" y="443700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ри сложившемся ее уровне количество людей, желающих получить работу, и число рабочих мест, предлагаемых работодателем сов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1187280" y="2060640"/>
            <a:ext cx="68421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73272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79280" y="2565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по графику равновесную ставку и равновесное количество зан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7"/>
          <p:cNvGrpSpPr/>
          <p:nvPr/>
        </p:nvGrpSpPr>
        <p:grpSpPr>
          <a:xfrm>
            <a:off x="1908000" y="4076640"/>
            <a:ext cx="4105440" cy="2782800"/>
            <a:chOff x="1908000" y="4076640"/>
            <a:chExt cx="4105440" cy="2782800"/>
          </a:xfrm>
        </p:grpSpPr>
        <p:sp>
          <p:nvSpPr>
            <p:cNvPr id="166" name="Line 9"/>
            <p:cNvSpPr/>
            <p:nvPr/>
          </p:nvSpPr>
          <p:spPr>
            <a:xfrm flipV="1">
              <a:off x="2627280" y="4292280"/>
              <a:ext cx="0" cy="20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2627280" y="6381720"/>
              <a:ext cx="3024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1"/>
            <p:cNvSpPr/>
            <p:nvPr/>
          </p:nvSpPr>
          <p:spPr>
            <a:xfrm>
              <a:off x="2627280" y="407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(руб/ч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507672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(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349236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"/>
            <p:cNvSpPr/>
            <p:nvPr/>
          </p:nvSpPr>
          <p:spPr>
            <a:xfrm>
              <a:off x="3059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3851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>
              <a:off x="421164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7"/>
            <p:cNvSpPr/>
            <p:nvPr/>
          </p:nvSpPr>
          <p:spPr>
            <a:xfrm>
              <a:off x="4643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 flipV="1">
              <a:off x="2843280" y="4724280"/>
              <a:ext cx="2520720" cy="115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0"/>
            <p:cNvSpPr/>
            <p:nvPr/>
          </p:nvSpPr>
          <p:spPr>
            <a:xfrm>
              <a:off x="2916360" y="4508640"/>
              <a:ext cx="1655640" cy="151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363528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771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327672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3995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6"/>
            <p:cNvSpPr/>
            <p:nvPr/>
          </p:nvSpPr>
          <p:spPr>
            <a:xfrm>
              <a:off x="4427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2484360" y="4941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2484360" y="5373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2484360" y="587700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1"/>
            <p:cNvSpPr/>
            <p:nvPr/>
          </p:nvSpPr>
          <p:spPr>
            <a:xfrm>
              <a:off x="2484360" y="450864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3"/>
            <p:cNvSpPr/>
            <p:nvPr/>
          </p:nvSpPr>
          <p:spPr>
            <a:xfrm>
              <a:off x="1908000" y="5661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4"/>
            <p:cNvSpPr/>
            <p:nvPr/>
          </p:nvSpPr>
          <p:spPr>
            <a:xfrm>
              <a:off x="1908000" y="515772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5"/>
            <p:cNvSpPr/>
            <p:nvPr/>
          </p:nvSpPr>
          <p:spPr>
            <a:xfrm>
              <a:off x="1908000" y="47242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36"/>
            <p:cNvSpPr/>
            <p:nvPr/>
          </p:nvSpPr>
          <p:spPr>
            <a:xfrm>
              <a:off x="1908000" y="42926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38"/>
          <p:cNvSpPr/>
          <p:nvPr/>
        </p:nvSpPr>
        <p:spPr>
          <a:xfrm>
            <a:off x="6516720" y="472428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150 руб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0 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ичины различий в уровнях оплаты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главные факторы, определяющие уровень оплаты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58920" y="443700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ость труда, тягость труда, ограниченность талантов, степень р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кройте понятие рынка т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совокупность экономических и юридических процедур, позволяющих людям обменивать свои трудовые услуги на заработную пл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пределяется заработная плата рабочих, объединенных в профсою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58920" y="443700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равновесием между спросом и предложением, а коллективным договором между профсоюзом и фир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1187280" y="2133720"/>
            <a:ext cx="6842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5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79280" y="270828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сты считают, что профсоюзы могут стать источником инфляции. Так ли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0" y="450864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овышение з/п не сопровождается ростом производительности труда, то издержки фирмы возрастают, т.е. возникает инфляция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безработ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468360" y="4581360"/>
                <a:ext cx="79200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безработицы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безработн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занят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8"/>
              <p:cNvSpPr txBox="1"/>
              <p:nvPr/>
            </p:nvSpPr>
            <p:spPr>
              <a:xfrm>
                <a:off x="749160" y="4581360"/>
                <a:ext cx="73566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занятости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занят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числите виды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58920" y="472428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, структурная, циклическая, сез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4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79280" y="299736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безработный бухгалтер, уволившийся из-за сложных отношений с директором и ищущий работу по специаль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1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2400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79280" y="292428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стеклодувы, которые много лет тому назад остались без работы из-за изобретения специальных станков для изготовления буты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755640" y="5805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24000" y="4508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рабочие обувной фабрики, уволенные из-за кризи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ическ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5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79280" y="299736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владелец водных аттракционов на Черном море в декаб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з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2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виды безработицы составляют естественный уровень безработи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755640" y="51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и 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особенность рынка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 и покупатели меняются местами: покупателями услуг труда являются фирмы, а продавцами – люди, предлагающие эти у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9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азывается экономическим потенциалом стр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755640" y="5157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м производства товаров и услуг при полной занятости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6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95280" y="386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79280" y="2997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предполагает полная занятость ресурс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468360" y="4508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загруженные производственные мощности на уровне 10-20% и естественный уровень безработицы на уровне 5,5-6,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ab7c15776273314921002d29fb57d9f1"/>
          <p:cNvPicPr/>
          <p:nvPr/>
        </p:nvPicPr>
        <p:blipFill>
          <a:blip r:embed="rId1"/>
          <a:stretch/>
        </p:blipFill>
        <p:spPr>
          <a:xfrm>
            <a:off x="6012000" y="3141720"/>
            <a:ext cx="2268360" cy="259704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5"/>
          <p:cNvSpPr/>
          <p:nvPr/>
        </p:nvSpPr>
        <p:spPr>
          <a:xfrm flipH="1">
            <a:off x="324000" y="260280"/>
            <a:ext cx="4465440" cy="4176720"/>
          </a:xfrm>
          <a:prstGeom prst="cloudCallout">
            <a:avLst>
              <a:gd name="adj1" fmla="val -90634"/>
              <a:gd name="adj2" fmla="val 35898"/>
            </a:avLst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6"/>
          <p:cNvSpPr txBox="1"/>
          <p:nvPr/>
        </p:nvSpPr>
        <p:spPr>
          <a:xfrm>
            <a:off x="1042920" y="981000"/>
            <a:ext cx="3384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Monotype Corsiva"/>
              </a:rPr>
              <a:t>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onotype Corsiva"/>
              </a:rPr>
              <a:t>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Monotype Corsiva"/>
              </a:rPr>
              <a:t>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pic>
        <p:nvPicPr>
          <p:cNvPr id="285" name="j0212430.wav" descr=""/>
          <p:cNvPicPr/>
          <p:nvPr/>
        </p:nvPicPr>
        <p:blipFill>
          <a:blip r:embed="rId8"/>
          <a:stretch/>
        </p:blipFill>
        <p:spPr>
          <a:xfrm>
            <a:off x="8101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4745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95280" y="4292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8360" y="2781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родается и покупается на рынке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8920" y="5229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уг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является ценой услуг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58920" y="450864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вка заработной платы, т.е. заработная плата работников за 1 час отработанн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акое монопсо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нок одного покупателя, когда он влияет на формирование цен в большей степени, чем остальные участ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кривая спроса фирмы на услуги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58920" y="501336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количество покупаемых услуг труда в зависимости от изменения ставки заработной 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звучит закон спроса для рынка 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ыше плата, которую работники требуют за свой труд, тем меньше их число готовы нанять работод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общий продукт труда при изменении трудозатрат на одну единицу и при прочих рав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4T11:22:59Z</dcterms:modified>
  <cp:revision>49</cp:revision>
  <dc:subject/>
  <dc:title>Основы компьютерной графики</dc:title>
</cp:coreProperties>
</file>